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6F3-9250-4CA5-A8D1-8976D4B3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E64-C3B7-4EE3-9948-2E12DA12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FDF-4A93-4E9C-9947-06768F4D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8DB-477F-4C7C-A1D6-F147148E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14F2-84DB-4C42-925D-262C73FA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78C-F1FB-4634-873D-A77C7D4C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F5B-D75A-420B-922A-9FD0DD62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7DB-78BD-4661-87A5-A1C26753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65DB-CC7A-45AE-9FE8-EA02D863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D89B-E65D-496A-B461-90D3FC2E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02F-A2CC-4F99-B901-CF93F843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D0F2-FA5A-44BE-9AF6-A30EF937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0571-AAFB-4253-81A5-3104ECF94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verybody Read To …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verybody read to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igur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out why the Earth affects our live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verybody read to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why we have day and night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verybody read to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ut what rotate mean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verybody read to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igur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out why it is cold at the pol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verybody read to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out another way the Earth moves besides rotating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verybody read to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out what the four seasons are and when they ar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verybody read to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igur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out why we have four different season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verybody read to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ut if the sun appears higher or lower in the sky in the summer and wh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verybody read  to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out if the sun appears higher or lower in the sky in the winter and wh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5:10:14Z</dcterms:created>
  <dc:creator>Rutherford County Schools</dc:creator>
  <dc:description/>
  <dc:language>en-US</dc:language>
  <cp:lastModifiedBy>Rutherford County Schools</cp:lastModifiedBy>
  <dcterms:modified xsi:type="dcterms:W3CDTF">2007-04-21T15:27:28Z</dcterms:modified>
  <cp:revision>3</cp:revision>
  <dc:subject/>
  <dc:title>Slide 1</dc:title>
</cp:coreProperties>
</file>